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5.xml.rels" ContentType="application/vnd.openxmlformats-package.relationships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43.jpeg" ContentType="image/jpeg"/>
  <Override PartName="/ppt/media/image5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2320-13B5-4102-8F5A-2DD7474D9F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B4A4-5D77-4E7C-845A-A47DDB5BA65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E9A0-9538-493E-A98E-FC9D81BE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C11-F496-48BE-825B-C3FEC7EB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6A46-88BC-4C86-AA94-8E10B166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5F92-0332-4C76-A82B-32944EB5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F587-AD2B-4818-9B01-776174A0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73D-E66E-41E1-A823-0352F769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147-0DAA-4D3F-9B0B-046E10D4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F25-D577-4725-B653-412A82D8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817-EA16-43D3-9F06-693BE91B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AB8-7D6F-4B4E-A86D-AEFA57DE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D254-AB1D-46BF-B2A0-4CAB80FB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73F6-7337-457A-BE5B-6392450F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4C45-A6EF-4DEE-9EB5-A533F4104CD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042920" y="1788480"/>
            <a:ext cx="74581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Calibri"/>
              </a:rPr>
              <a:t>Урок - исследо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06ca"/>
                </a:solidFill>
                <a:latin typeface="Calibri"/>
                <a:ea typeface="Calibri"/>
              </a:rPr>
              <a:t>«</a:t>
            </a:r>
            <a:r>
              <a:rPr b="1" lang="ru-RU" sz="4800" spc="-1" strike="noStrike">
                <a:solidFill>
                  <a:srgbClr val="2206ca"/>
                </a:solidFill>
                <a:latin typeface="Times New Roman"/>
                <a:ea typeface="Calibri"/>
              </a:rPr>
              <a:t>Магия цвета</a:t>
            </a:r>
            <a:r>
              <a:rPr b="1" lang="ru-RU" sz="4800" spc="-1" strike="noStrike">
                <a:solidFill>
                  <a:srgbClr val="2206ca"/>
                </a:solidFill>
                <a:latin typeface="Calibri"/>
                <a:ea typeface="Calibri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06ca"/>
                </a:solidFill>
                <a:latin typeface="Calibri"/>
                <a:ea typeface="Calibri"/>
              </a:rPr>
              <a:t>Разработала Кожевникова Ольга Александровна, 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340000" y="5106600"/>
            <a:ext cx="47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" descr="colorwheel_large.gif"/>
          <p:cNvPicPr/>
          <p:nvPr/>
        </p:nvPicPr>
        <p:blipFill>
          <a:blip r:embed="rId2"/>
          <a:stretch/>
        </p:blipFill>
        <p:spPr>
          <a:xfrm>
            <a:off x="1763640" y="1844640"/>
            <a:ext cx="5500800" cy="43340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971640" y="501120"/>
            <a:ext cx="710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Все остальные цвета называются  </a:t>
            </a:r>
            <a:r>
              <a:rPr b="0" i="1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хроматические 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(цвет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" descr="mhtml:file://E:\Классификация%20цветов.mht!http://vmeste.opredelim.com/tw_files2/urls_554/22/d-21143/21143_html_m3a980608.jpg"/>
          <p:cNvPicPr/>
          <p:nvPr/>
        </p:nvPicPr>
        <p:blipFill>
          <a:blip r:embed="rId2"/>
          <a:stretch/>
        </p:blipFill>
        <p:spPr>
          <a:xfrm>
            <a:off x="2411280" y="1700280"/>
            <a:ext cx="4429080" cy="4724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826920" y="421200"/>
            <a:ext cx="767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Все хроматические цвета делятся               н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основные</a:t>
            </a:r>
            <a:r>
              <a:rPr b="1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и</a:t>
            </a:r>
            <a:r>
              <a:rPr b="1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составные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ComputerDesktopWallpapersCollection384_017.jpg"/>
          <p:cNvPicPr/>
          <p:nvPr/>
        </p:nvPicPr>
        <p:blipFill>
          <a:blip r:embed="rId2"/>
          <a:stretch/>
        </p:blipFill>
        <p:spPr>
          <a:xfrm>
            <a:off x="1332000" y="2205000"/>
            <a:ext cx="6072120" cy="3686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1640880" y="506880"/>
            <a:ext cx="582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Выделяют три основных цвет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синий, красный, желтый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" descr="PaintPrimaryMixing.gif"/>
          <p:cNvPicPr/>
          <p:nvPr/>
        </p:nvPicPr>
        <p:blipFill>
          <a:blip r:embed="rId2"/>
          <a:stretch/>
        </p:blipFill>
        <p:spPr>
          <a:xfrm>
            <a:off x="1258920" y="2421000"/>
            <a:ext cx="6715080" cy="36194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1648440" y="637920"/>
            <a:ext cx="61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Составные цвета получают пут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смешения основны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" descr="839777.jpg"/>
          <p:cNvPicPr/>
          <p:nvPr/>
        </p:nvPicPr>
        <p:blipFill>
          <a:blip r:embed="rId2"/>
          <a:stretch/>
        </p:blipFill>
        <p:spPr>
          <a:xfrm>
            <a:off x="1908000" y="1773360"/>
            <a:ext cx="5222880" cy="4475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395280" y="55296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Ещё один  способ деления цветов 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тёпл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холод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цв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1152360" y="1295280"/>
            <a:ext cx="60724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5" descr="solntse_nashe_vsyo.JPG"/>
          <p:cNvPicPr/>
          <p:nvPr/>
        </p:nvPicPr>
        <p:blipFill>
          <a:blip r:embed="rId2"/>
          <a:stretch/>
        </p:blipFill>
        <p:spPr>
          <a:xfrm>
            <a:off x="4932360" y="1268280"/>
            <a:ext cx="3873600" cy="3875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737360"/>
            <a:ext cx="471960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Тёплыми 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принято считать красный, оранжевый, жёлтый,        а также те цвета, которые получаются их смешиванием.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   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481640" y="54792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" descr="360e036da438_yapfiles.ru.jpg"/>
          <p:cNvPicPr/>
          <p:nvPr/>
        </p:nvPicPr>
        <p:blipFill>
          <a:blip r:embed="rId2"/>
          <a:stretch/>
        </p:blipFill>
        <p:spPr>
          <a:xfrm>
            <a:off x="2987640" y="2205000"/>
            <a:ext cx="3745080" cy="35593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826920" y="840960"/>
            <a:ext cx="74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Холодные цвета – 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синий, фиолетовый и производные от них.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"/>
          <p:cNvSpPr/>
          <p:nvPr/>
        </p:nvSpPr>
        <p:spPr>
          <a:xfrm>
            <a:off x="684360" y="404640"/>
            <a:ext cx="8064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Зелёный же цвет не принадлежит ни к одной из групп.                                                           Он находится на границе этих групп, и поэтому всё зависит от того, какого цвета в нём больше.  Если жёлтого, то зелёный цвет тёплый, а если синего, то – холодны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2" descr="8a9813734f57cc1ea15d3b2c4189680b_1207971f17236e155fe76aad77d92674.jpg"/>
          <p:cNvPicPr/>
          <p:nvPr/>
        </p:nvPicPr>
        <p:blipFill>
          <a:blip r:embed="rId2"/>
          <a:stretch/>
        </p:blipFill>
        <p:spPr>
          <a:xfrm>
            <a:off x="2357280" y="3643200"/>
            <a:ext cx="465948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324000" y="357480"/>
            <a:ext cx="8572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Третий способ делени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контрастные   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и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сближенные 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ц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Контрастными цветами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 называют противоположные по качеству цвета</a:t>
            </a:r>
            <a:r>
              <a:rPr b="1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. 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                               Это синий и оранжевый, жёлтый и фиолетовый, красный и зелёный ц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Эти  цвета подчеркивают яркость друг друга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367080" y="50461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6" descr="C:\Users\2 класс\Desktop\4.bmp"/>
          <p:cNvPicPr/>
          <p:nvPr/>
        </p:nvPicPr>
        <p:blipFill>
          <a:blip r:embed="rId2"/>
          <a:stretch/>
        </p:blipFill>
        <p:spPr>
          <a:xfrm>
            <a:off x="3203640" y="3933720"/>
            <a:ext cx="259236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357120" y="64296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Сближённые цвета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 находятся в спектре рядом, например, оранжевый и желтый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C:\Users\2 класс\Desktop\магия цвета\8.jpeg"/>
          <p:cNvPicPr/>
          <p:nvPr/>
        </p:nvPicPr>
        <p:blipFill>
          <a:blip r:embed="rId2"/>
          <a:stretch/>
        </p:blipFill>
        <p:spPr>
          <a:xfrm>
            <a:off x="928800" y="2286000"/>
            <a:ext cx="75168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826920" y="1279800"/>
            <a:ext cx="73105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Цель исследования: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06ca"/>
                </a:solidFill>
                <a:latin typeface="Times New Roman"/>
                <a:ea typeface="Calibri"/>
              </a:rPr>
              <a:t>Изучить воздействие цвета на челове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06ca"/>
                </a:solidFill>
                <a:latin typeface="Times New Roman"/>
                <a:ea typeface="Calibri"/>
              </a:rPr>
              <a:t>и его использование в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250920" y="91944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Каждый человек рождается с внутренним ощущением цвета, и на протяжении всей жизни имеет эмоциональную реакцию на тот или иной цвет, поэтому мы все знаем, что нам нравиться и что –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226836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почтение ц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E:\КАРТИНКИ 1\1.jpg"/>
          <p:cNvPicPr/>
          <p:nvPr/>
        </p:nvPicPr>
        <p:blipFill>
          <a:blip r:embed="rId2"/>
          <a:stretch/>
        </p:blipFill>
        <p:spPr>
          <a:xfrm>
            <a:off x="2700360" y="3573360"/>
            <a:ext cx="42480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"/>
          <p:cNvSpPr/>
          <p:nvPr/>
        </p:nvSpPr>
        <p:spPr>
          <a:xfrm>
            <a:off x="250920" y="196200"/>
            <a:ext cx="8178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Оказывается,  синий цвет - самый любимый цвет в мире.                                                         Второй цвет, который люди больше всего предпочитают – пурпурный.                                                Самый нелюбимый цвет в большинстве стран - бел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C:\Documents and Settings\3 КЛАСС\Рабочий стол\2.jpeg"/>
          <p:cNvPicPr/>
          <p:nvPr/>
        </p:nvPicPr>
        <p:blipFill>
          <a:blip r:embed="rId2"/>
          <a:stretch/>
        </p:blipFill>
        <p:spPr>
          <a:xfrm>
            <a:off x="2556000" y="3284640"/>
            <a:ext cx="428616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Диаграмма 2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8001000" cy="4572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"/>
          <p:cNvSpPr/>
          <p:nvPr/>
        </p:nvSpPr>
        <p:spPr>
          <a:xfrm>
            <a:off x="611280" y="44172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Из всего многообразия цветов  наши одноклассники, выделили лишь 12 предпочитаемых 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2018880" y="552960"/>
            <a:ext cx="549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Нелюбимым цветом назы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Диаграмма 3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6858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"/>
          <p:cNvSpPr/>
          <p:nvPr/>
        </p:nvSpPr>
        <p:spPr>
          <a:xfrm>
            <a:off x="2789280" y="983520"/>
            <a:ext cx="35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Изучение цве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611280" y="1676160"/>
            <a:ext cx="8072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Еще с древних времен люди верили в значимость того или иного цвета  и пытались понять их предназначение.                                       Но так и не смогли прийти к согласию, так как в разных странах отношение к различным цветам не совпад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1"/>
          <p:cNvSpPr/>
          <p:nvPr/>
        </p:nvSpPr>
        <p:spPr>
          <a:xfrm>
            <a:off x="2220120" y="549360"/>
            <a:ext cx="48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Характеристика ц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395280" y="141300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Из источников, найденных в сети Интернет,    мы узнали  значение и символику этих цве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https://cf2.ppt-online.org/files2/slide/j/jG1tQ8eKTzDqiWnEJHxcfwLSaIb405yoXBAP3RO9C/slide-77.jpg"/>
          <p:cNvPicPr/>
          <p:nvPr/>
        </p:nvPicPr>
        <p:blipFill>
          <a:blip r:embed="rId2"/>
          <a:stretch/>
        </p:blipFill>
        <p:spPr>
          <a:xfrm>
            <a:off x="2050920" y="2565360"/>
            <a:ext cx="4984920" cy="373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179280" y="4260240"/>
            <a:ext cx="89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Красный цвет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–</a:t>
            </a:r>
            <a:r>
              <a:rPr b="1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цвет жизни, радости, здоровь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Символизирует опасность, любовь, власть, ого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Его любят люди открытые, общительные, храбрые и решитель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E:\картинки цвет\1.jpg"/>
          <p:cNvPicPr/>
          <p:nvPr/>
        </p:nvPicPr>
        <p:blipFill>
          <a:blip r:embed="rId2"/>
          <a:stretch/>
        </p:blipFill>
        <p:spPr>
          <a:xfrm>
            <a:off x="2700360" y="907920"/>
            <a:ext cx="37432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250920" y="73440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Голубой цвет</a:t>
            </a:r>
            <a:r>
              <a:rPr b="0" lang="ru-RU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  - легкий, воздушны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Он символизирует чистоту,  постоянство и нежность.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Люди, его предпочитающие – это натуры мечтательные и  романтич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G:\картинки цвет\9.jpg"/>
          <p:cNvPicPr/>
          <p:nvPr/>
        </p:nvPicPr>
        <p:blipFill>
          <a:blip r:embed="rId2"/>
          <a:stretch/>
        </p:blipFill>
        <p:spPr>
          <a:xfrm>
            <a:off x="2627280" y="3357720"/>
            <a:ext cx="38512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"/>
          <p:cNvSpPr/>
          <p:nvPr/>
        </p:nvSpPr>
        <p:spPr>
          <a:xfrm>
            <a:off x="179280" y="692640"/>
            <a:ext cx="89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Синий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цвет 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- тяжелый, строгий, таинственный. </a:t>
            </a:r>
            <a:r>
              <a:rPr b="0" lang="ru-RU" sz="3200" spc="-1" strike="noStrike">
                <a:solidFill>
                  <a:srgbClr val="330bc5"/>
                </a:solidFill>
                <a:latin typeface="Times New Roman"/>
                <a:ea typeface="Calibri"/>
              </a:rPr>
              <a:t>Обычно нравится людям скромным, добросовестным, терпеливым, надежным и организован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bc5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G:\картинки цвет\3.jpg"/>
          <p:cNvPicPr/>
          <p:nvPr/>
        </p:nvPicPr>
        <p:blipFill>
          <a:blip r:embed="rId2"/>
          <a:stretch/>
        </p:blipFill>
        <p:spPr>
          <a:xfrm>
            <a:off x="2627280" y="2852640"/>
            <a:ext cx="416880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"/>
          <p:cNvSpPr/>
          <p:nvPr/>
        </p:nvSpPr>
        <p:spPr>
          <a:xfrm>
            <a:off x="324000" y="419400"/>
            <a:ext cx="835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Calibri"/>
              </a:rPr>
              <a:t>Жёлтый цвет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цвет счастья, мудрости, фантазии и оптим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, которых привлекает жёлтый, открыты для всего нового, обладают острым ум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 свойственны высокая самооценка и  уверенность в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G:\картинки цвет\2.jpg"/>
          <p:cNvPicPr/>
          <p:nvPr/>
        </p:nvPicPr>
        <p:blipFill>
          <a:blip r:embed="rId2"/>
          <a:stretch/>
        </p:blipFill>
        <p:spPr>
          <a:xfrm>
            <a:off x="2700360" y="3429000"/>
            <a:ext cx="360036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971640" y="473760"/>
            <a:ext cx="720072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дач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06ca"/>
                </a:solidFill>
                <a:latin typeface="Times New Roman"/>
                <a:ea typeface="Calibri"/>
              </a:rPr>
              <a:t>1.Провести анкет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06ca"/>
                </a:solidFill>
                <a:latin typeface="Times New Roman"/>
                <a:ea typeface="Calibri"/>
              </a:rPr>
              <a:t>2. Узнать из разных источник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06ca"/>
                </a:solidFill>
                <a:latin typeface="Times New Roman"/>
                <a:ea typeface="Calibri"/>
              </a:rPr>
              <a:t>* что такое цв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06ca"/>
                </a:solidFill>
                <a:latin typeface="Times New Roman"/>
                <a:ea typeface="Calibri"/>
              </a:rPr>
              <a:t>* как он возник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06ca"/>
                </a:solidFill>
                <a:latin typeface="Times New Roman"/>
                <a:ea typeface="Calibri"/>
              </a:rPr>
              <a:t>* как классифицируют цве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06ca"/>
                </a:solidFill>
                <a:latin typeface="Times New Roman"/>
                <a:ea typeface="Calibri"/>
              </a:rPr>
              <a:t>* какое  значение имеет каждый цв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06ca"/>
                </a:solidFill>
                <a:latin typeface="Times New Roman"/>
                <a:ea typeface="Calibri"/>
              </a:rPr>
              <a:t>*</a:t>
            </a:r>
            <a:r>
              <a:rPr b="0" i="1" lang="ru-RU" sz="2800" spc="-1" strike="noStrike">
                <a:solidFill>
                  <a:srgbClr val="2206ca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2206ca"/>
                </a:solidFill>
                <a:latin typeface="Times New Roman"/>
                <a:ea typeface="Calibri"/>
              </a:rPr>
              <a:t>как  цвет воздействует на человека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06ca"/>
                </a:solidFill>
                <a:latin typeface="Times New Roman"/>
                <a:ea typeface="Calibri"/>
              </a:rPr>
              <a:t>* как человек использует цвет в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06ca"/>
                </a:solidFill>
                <a:latin typeface="Times New Roman"/>
                <a:ea typeface="Calibri"/>
              </a:rPr>
              <a:t>3. По результатам исследования сделать 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250920" y="1459440"/>
            <a:ext cx="85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елёный цвет -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Calibri"/>
              </a:rPr>
              <a:t>цвет естественности и свежести.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Он символизирует процветание и новые начи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юди, предпочитающие зелёный, отличаются высокой работоспособностью. Они приветливы, но у них есть свой собственный мир, который они никому не раскрыва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G:\картинки цвет\4.jpg"/>
          <p:cNvPicPr/>
          <p:nvPr/>
        </p:nvPicPr>
        <p:blipFill>
          <a:blip r:embed="rId2"/>
          <a:stretch/>
        </p:blipFill>
        <p:spPr>
          <a:xfrm>
            <a:off x="3059280" y="3789360"/>
            <a:ext cx="27144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"/>
          <p:cNvSpPr/>
          <p:nvPr/>
        </p:nvSpPr>
        <p:spPr>
          <a:xfrm>
            <a:off x="684360" y="84888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озовый цвет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— мягкий цвет, который притупляет эмоции гнева и агрессии.             Он означает добро, романтику, любов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Те, кто выбирает розовый хотят жить полной жизнью, желают новых впечатлений, трудолюбивы и не любят отдых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G:\1.jpeg"/>
          <p:cNvPicPr/>
          <p:nvPr/>
        </p:nvPicPr>
        <p:blipFill>
          <a:blip r:embed="rId2"/>
          <a:stretch/>
        </p:blipFill>
        <p:spPr>
          <a:xfrm>
            <a:off x="2916360" y="3500280"/>
            <a:ext cx="36162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"/>
          <p:cNvSpPr/>
          <p:nvPr/>
        </p:nvSpPr>
        <p:spPr>
          <a:xfrm>
            <a:off x="179280" y="410760"/>
            <a:ext cx="86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Коричневый цвет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олицетворяет стабильность и  преданность.                                                   Его выбирают уверенные люди, которые  любят работать,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нят тишину, одиночество и покой. Они всегда тянутся к знаниям, стремятся к власти.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G:\картинки цвет\21.jpg"/>
          <p:cNvPicPr/>
          <p:nvPr/>
        </p:nvPicPr>
        <p:blipFill>
          <a:blip r:embed="rId2"/>
          <a:stretch/>
        </p:blipFill>
        <p:spPr>
          <a:xfrm>
            <a:off x="2340000" y="3716280"/>
            <a:ext cx="42148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324000" y="77652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Серый цвет  достаточно дружелюбен и надежен, дает силу неуверенным личнос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Те, кто предпочитает серый на первое место ставят разум; считают, что эмоции можно проявлять только в определенных обстоятельствах (но не сейчас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G:\картинки цвет\29.jpg"/>
          <p:cNvPicPr/>
          <p:nvPr/>
        </p:nvPicPr>
        <p:blipFill>
          <a:blip r:embed="rId2"/>
          <a:stretch/>
        </p:blipFill>
        <p:spPr>
          <a:xfrm>
            <a:off x="3071880" y="4071960"/>
            <a:ext cx="31431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"/>
          <p:cNvSpPr/>
          <p:nvPr/>
        </p:nvSpPr>
        <p:spPr>
          <a:xfrm>
            <a:off x="539640" y="5965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рный цвет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цвет тайны, печали.  Символизирует опас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, предпочитающие черный  – загадки. У них своё мнение и свой образ жизни.          Они способны терпеть лишения, готовы  к решению возникающих проблем и вопросов.  У них душа иск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G:\картинки цвет\20.jpg"/>
          <p:cNvPicPr/>
          <p:nvPr/>
        </p:nvPicPr>
        <p:blipFill>
          <a:blip r:embed="rId2"/>
          <a:stretch/>
        </p:blipFill>
        <p:spPr>
          <a:xfrm>
            <a:off x="3500280" y="4149720"/>
            <a:ext cx="30402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"/>
          <p:cNvSpPr/>
          <p:nvPr/>
        </p:nvSpPr>
        <p:spPr>
          <a:xfrm>
            <a:off x="971640" y="1342440"/>
            <a:ext cx="3671640" cy="44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 цвет 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цве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ы и  чист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, которые выбирают белый, готовы отдаться своему делу полностью, но при этом они бывают недотрог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G:\картинки цвет\17.jpg"/>
          <p:cNvPicPr/>
          <p:nvPr/>
        </p:nvPicPr>
        <p:blipFill>
          <a:blip r:embed="rId2"/>
          <a:stretch/>
        </p:blipFill>
        <p:spPr>
          <a:xfrm>
            <a:off x="4932360" y="1692360"/>
            <a:ext cx="345600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"/>
          <p:cNvSpPr/>
          <p:nvPr/>
        </p:nvSpPr>
        <p:spPr>
          <a:xfrm>
            <a:off x="539640" y="416160"/>
            <a:ext cx="821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ранжевый цвет</a:t>
            </a:r>
            <a:r>
              <a:rPr b="0" lang="ru-RU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теплый, легкий.               Он символизирует наслаждение, праздн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Люди , выбирающие оранжевый, обладают добротой, отзывчивостью, всегда находятся в хорошем настро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G:\картинки цвет\10.jpg"/>
          <p:cNvPicPr/>
          <p:nvPr/>
        </p:nvPicPr>
        <p:blipFill>
          <a:blip r:embed="rId2"/>
          <a:stretch/>
        </p:blipFill>
        <p:spPr>
          <a:xfrm>
            <a:off x="2571840" y="300024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1"/>
          <p:cNvSpPr/>
          <p:nvPr/>
        </p:nvSpPr>
        <p:spPr>
          <a:xfrm>
            <a:off x="539640" y="40464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Фиолетовый цвет – холодный и таинственный.  Он символ мудр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Люди, которым нравится фиолетовый, любят помечтать. Они обладают тонким ум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G:\картинки цвет\12.jpg"/>
          <p:cNvPicPr/>
          <p:nvPr/>
        </p:nvPicPr>
        <p:blipFill>
          <a:blip r:embed="rId2"/>
          <a:stretch/>
        </p:blipFill>
        <p:spPr>
          <a:xfrm>
            <a:off x="2411280" y="2708280"/>
            <a:ext cx="47689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1"/>
          <p:cNvSpPr/>
          <p:nvPr/>
        </p:nvSpPr>
        <p:spPr>
          <a:xfrm>
            <a:off x="2066400" y="476280"/>
            <a:ext cx="53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Воздействие на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"/>
          <p:cNvSpPr/>
          <p:nvPr/>
        </p:nvSpPr>
        <p:spPr>
          <a:xfrm>
            <a:off x="324000" y="479736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Влияние цвета на человека очень велико. Существует  целая школа исцеления с помощью цв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C:\Users\2 класс\Desktop\цв\2.jpeg"/>
          <p:cNvPicPr/>
          <p:nvPr/>
        </p:nvPicPr>
        <p:blipFill>
          <a:blip r:embed="rId2"/>
          <a:stretch/>
        </p:blipFill>
        <p:spPr>
          <a:xfrm>
            <a:off x="2340000" y="1197000"/>
            <a:ext cx="475308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"/>
          <p:cNvSpPr/>
          <p:nvPr/>
        </p:nvSpPr>
        <p:spPr>
          <a:xfrm>
            <a:off x="324000" y="606960"/>
            <a:ext cx="849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В Древнем Египте широко применялось лечение энергией бога Солнца Ра.                                            В большие сосуды с соком созревших фруктов, вобравших в себя солнечную энергию, клали драгоценные камни. Этот сок давали пить больным людям для  лечения заболе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7" descr="магия цвета"/>
          <p:cNvPicPr/>
          <p:nvPr/>
        </p:nvPicPr>
        <p:blipFill>
          <a:blip r:embed="rId2"/>
          <a:stretch/>
        </p:blipFill>
        <p:spPr>
          <a:xfrm>
            <a:off x="2843280" y="4076640"/>
            <a:ext cx="3692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"/>
          <p:cNvSpPr/>
          <p:nvPr/>
        </p:nvSpPr>
        <p:spPr>
          <a:xfrm>
            <a:off x="285840" y="336240"/>
            <a:ext cx="88581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Что такое цв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В толковом словаре                                          Сергея  Ивановича  Ожегова говорить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«Цвет -  один из видов красочного радужного свечения - от красного до фиолетового, а также их сочетания или оттен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svetlota-spektralnyh.jpg"/>
          <p:cNvPicPr/>
          <p:nvPr/>
        </p:nvPicPr>
        <p:blipFill>
          <a:blip r:embed="rId2"/>
          <a:stretch/>
        </p:blipFill>
        <p:spPr>
          <a:xfrm>
            <a:off x="1619280" y="3933720"/>
            <a:ext cx="6215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1"/>
          <p:cNvSpPr/>
          <p:nvPr/>
        </p:nvSpPr>
        <p:spPr>
          <a:xfrm>
            <a:off x="395280" y="476280"/>
            <a:ext cx="835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А в 18 веке в Европе были распространены цветные витра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Если человек устал от одного цвета, то надо посмотреть на противоположный, чтобы поменялось состоя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3" descr="цвета делятся по воздействию на три категории"/>
          <p:cNvPicPr/>
          <p:nvPr/>
        </p:nvPicPr>
        <p:blipFill>
          <a:blip r:embed="rId2"/>
          <a:stretch/>
        </p:blipFill>
        <p:spPr>
          <a:xfrm>
            <a:off x="2484360" y="3357720"/>
            <a:ext cx="41990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"/>
          <p:cNvSpPr/>
          <p:nvPr/>
        </p:nvSpPr>
        <p:spPr>
          <a:xfrm>
            <a:off x="0" y="63936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В последнее время во многих стра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практикуют окраску стен больничных палат в соответствующие целям лечения цвета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Для сердечников - зеленый.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Для страдающих от головных болей  - синий.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Для больных с кожными болезнями - желт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E:\КАРТИНКИ 1\ВРАЧИ.jpeg"/>
          <p:cNvPicPr/>
          <p:nvPr/>
        </p:nvPicPr>
        <p:blipFill>
          <a:blip r:embed="rId2"/>
          <a:stretch/>
        </p:blipFill>
        <p:spPr>
          <a:xfrm>
            <a:off x="2700360" y="4365720"/>
            <a:ext cx="42307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1834200" y="406080"/>
            <a:ext cx="57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Использование цвета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611280" y="134748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Цвет используют люди разных професс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Каждый специалист применяет цвет в его определенно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C:\Users\2 класс\Desktop\цв\3.jpeg"/>
          <p:cNvPicPr/>
          <p:nvPr/>
        </p:nvPicPr>
        <p:blipFill>
          <a:blip r:embed="rId2"/>
          <a:srcRect l="2021" t="2520" r="2021" b="17637"/>
          <a:stretch/>
        </p:blipFill>
        <p:spPr>
          <a:xfrm>
            <a:off x="2411280" y="3357720"/>
            <a:ext cx="47498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1"/>
          <p:cNvSpPr/>
          <p:nvPr/>
        </p:nvSpPr>
        <p:spPr>
          <a:xfrm>
            <a:off x="468360" y="6922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06ca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Красный цвет используют для предупреждения об опасности, например, запрещающие   зна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E:\КАРТИНКИ 1\ЗН.jpeg"/>
          <p:cNvPicPr/>
          <p:nvPr/>
        </p:nvPicPr>
        <p:blipFill>
          <a:blip r:embed="rId2"/>
          <a:stretch/>
        </p:blipFill>
        <p:spPr>
          <a:xfrm>
            <a:off x="6443640" y="350028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E:\КАРТИНКИ 1\ЗНАК.jpeg"/>
          <p:cNvPicPr/>
          <p:nvPr/>
        </p:nvPicPr>
        <p:blipFill>
          <a:blip r:embed="rId3"/>
          <a:stretch/>
        </p:blipFill>
        <p:spPr>
          <a:xfrm>
            <a:off x="3276720" y="2852640"/>
            <a:ext cx="3024000" cy="3003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E:\КАРТИНКИ 1\3.jpeg"/>
          <p:cNvPicPr/>
          <p:nvPr/>
        </p:nvPicPr>
        <p:blipFill>
          <a:blip r:embed="rId4"/>
          <a:stretch/>
        </p:blipFill>
        <p:spPr>
          <a:xfrm>
            <a:off x="250920" y="3573360"/>
            <a:ext cx="30002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971640" y="69228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А использование в открытках  красной розы или сердца   символизирует признание в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E:\КАРТИНКИ 1\55.jpeg"/>
          <p:cNvPicPr/>
          <p:nvPr/>
        </p:nvPicPr>
        <p:blipFill>
          <a:blip r:embed="rId2"/>
          <a:stretch/>
        </p:blipFill>
        <p:spPr>
          <a:xfrm>
            <a:off x="1979640" y="2349360"/>
            <a:ext cx="5400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"/>
          <p:cNvSpPr/>
          <p:nvPr/>
        </p:nvSpPr>
        <p:spPr>
          <a:xfrm>
            <a:off x="179280" y="430920"/>
            <a:ext cx="896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Изучив источники, мы сделали </a:t>
            </a:r>
            <a:r>
              <a:rPr b="1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вывод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Рождение цвета – это таи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Каждый цвет имеет свою символику и свои особ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Цвет – мощное средство воздействия на  человека на подсознательном уров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Мы выражаем себя с помощью цвета, когда носим одежду определенного цвета или украшаем жилище.                                                                     С помощью цвета мы лечим свои физические, психические или душевные недуг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"/>
          <p:cNvSpPr/>
          <p:nvPr/>
        </p:nvSpPr>
        <p:spPr>
          <a:xfrm>
            <a:off x="250920" y="-46440"/>
            <a:ext cx="850104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bc5"/>
                </a:solidFill>
                <a:latin typeface="Times New Roman"/>
                <a:ea typeface="Calibri"/>
              </a:rPr>
              <a:t>Поэтому каждый современный человек должен знать и понимать магию цвета, чтобы лучше ориентироваться в окружающем ми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330bc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3" descr="C:\Users\Елена\Pictures\Цвет\1328.jpg"/>
          <p:cNvPicPr/>
          <p:nvPr/>
        </p:nvPicPr>
        <p:blipFill>
          <a:blip r:embed="rId2"/>
          <a:stretch/>
        </p:blipFill>
        <p:spPr>
          <a:xfrm>
            <a:off x="1476360" y="2133720"/>
            <a:ext cx="636264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"/>
          <p:cNvSpPr/>
          <p:nvPr/>
        </p:nvSpPr>
        <p:spPr>
          <a:xfrm>
            <a:off x="928800" y="200016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395280" y="1052640"/>
            <a:ext cx="439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Свет, излучаемый Солнцем, называется белым цветом. Но в действительности белый цвет – это смесь разных цветов. Это можно обнаружить, если посмотреть через  трёхгранную стеклянную приз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395280" y="4585680"/>
            <a:ext cx="84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06ca"/>
                </a:solidFill>
                <a:latin typeface="Times New Roman"/>
                <a:ea typeface="Calibri"/>
              </a:rPr>
              <a:t>Свет, проходя через неё,  распадается на различные цвета: красный, оранжевый, желтый, зеленый, голубой, синий  и  фиолетов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C:\Users\2 класс\Desktop\Новая папка\DSC04590.JPG"/>
          <p:cNvPicPr/>
          <p:nvPr/>
        </p:nvPicPr>
        <p:blipFill>
          <a:blip r:embed="rId2"/>
          <a:stretch/>
        </p:blipFill>
        <p:spPr>
          <a:xfrm>
            <a:off x="4743360" y="884160"/>
            <a:ext cx="41194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468360" y="33336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Это  доказал  ещё в 1666 году английский ученый Исаак Нью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2"/>
          <a:srcRect l="27461" t="10103" r="41240" b="20598"/>
          <a:stretch/>
        </p:blipFill>
        <p:spPr>
          <a:xfrm>
            <a:off x="2916360" y="1484280"/>
            <a:ext cx="3816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1979640" y="62208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Классификация  цв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042920" y="1648080"/>
            <a:ext cx="3714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В настоящее время известно около 200 оттенков цветов, которые может различить человеческий глаз и которые имеют свои наз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5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0006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hudognik.jpg"/>
          <p:cNvPicPr/>
          <p:nvPr/>
        </p:nvPicPr>
        <p:blipFill>
          <a:blip r:embed="rId2"/>
          <a:stretch/>
        </p:blipFill>
        <p:spPr>
          <a:xfrm>
            <a:off x="755640" y="531720"/>
            <a:ext cx="3311640" cy="5370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4500720" y="1484280"/>
            <a:ext cx="4030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Times New Roman"/>
              </a:rPr>
              <a:t>А чтобы было проще ориентироваться в них, люди придумали различные классификации цветов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https://i.pinimg.com/originals/a2/c8/e6/a2c8e62da2777caba28f723624961b3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795240" y="652320"/>
            <a:ext cx="6143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947880" y="804960"/>
            <a:ext cx="6143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468360" y="336960"/>
            <a:ext cx="82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Выделяют две основные группы </a:t>
            </a:r>
            <a:r>
              <a:rPr b="1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хроматические</a:t>
            </a:r>
            <a:r>
              <a:rPr b="1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и</a:t>
            </a:r>
            <a:r>
              <a:rPr b="1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ахроматические</a:t>
            </a:r>
            <a:r>
              <a:rPr b="1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цв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2" descr="232.jpg"/>
          <p:cNvPicPr/>
          <p:nvPr/>
        </p:nvPicPr>
        <p:blipFill>
          <a:blip r:embed="rId2"/>
          <a:stretch/>
        </p:blipFill>
        <p:spPr>
          <a:xfrm>
            <a:off x="2050920" y="1700280"/>
            <a:ext cx="4896000" cy="258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 flipV="1" rot="10800000">
            <a:off x="179280" y="45745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Цвета, не содержащие цвет называются </a:t>
            </a:r>
            <a:r>
              <a:rPr b="0" i="1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ахроматические 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 (не цветные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Это </a:t>
            </a:r>
            <a:r>
              <a:rPr b="1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белый и чёрный  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цвета, а также все </a:t>
            </a:r>
            <a:r>
              <a:rPr b="1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серые</a:t>
            </a:r>
            <a:r>
              <a:rPr b="0" lang="ru-RU" sz="3200" spc="-1" strike="noStrike">
                <a:solidFill>
                  <a:srgbClr val="2206ca"/>
                </a:solidFill>
                <a:latin typeface="Times New Roman"/>
                <a:ea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09:47:46Z</dcterms:created>
  <dc:creator>Helen</dc:creator>
  <dc:description/>
  <dc:language>en-US</dc:language>
  <cp:lastModifiedBy>teacher</cp:lastModifiedBy>
  <dcterms:modified xsi:type="dcterms:W3CDTF">2024-03-29T18:19:48Z</dcterms:modified>
  <cp:revision>116</cp:revision>
  <dc:subject/>
  <dc:title>Слайд 1</dc:title>
</cp:coreProperties>
</file>